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5.wmf" ContentType="image/x-wmf"/>
  <Override PartName="/ppt/media/image15.jpeg" ContentType="image/jpeg"/>
  <Override PartName="/ppt/media/image24.gif" ContentType="image/gif"/>
  <Override PartName="/ppt/media/image22.png" ContentType="image/png"/>
  <Override PartName="/ppt/media/image19.jpeg" ContentType="image/jpeg"/>
  <Override PartName="/ppt/media/image29.wmf" ContentType="image/x-wmf"/>
  <Override PartName="/ppt/media/image5.jpeg" ContentType="image/jpeg"/>
  <Override PartName="/ppt/media/image9.jpeg" ContentType="image/jpeg"/>
  <Override PartName="/ppt/media/image11.jpeg" ContentType="image/jpeg"/>
  <Override PartName="/ppt/media/image31.wmf" ContentType="image/x-wmf"/>
  <Override PartName="/ppt/media/image35.gif" ContentType="image/gif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wmf" ContentType="image/x-wmf"/>
  <Override PartName="/ppt/media/image6.jpeg" ContentType="image/jpeg"/>
  <Override PartName="/ppt/media/image33.gif" ContentType="image/gif"/>
  <Override PartName="/ppt/media/image18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3.wmf" ContentType="image/x-wmf"/>
  <Override PartName="/ppt/media/image27.gif" ContentType="image/gif"/>
  <Override PartName="/ppt/media/image28.wmf" ContentType="image/x-wmf"/>
  <Override PartName="/ppt/media/image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43C-F5BD-4AB9-B86B-323AC328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930-7D0D-4D19-8A2B-A3F6F7DD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A5B-C12A-44B2-8054-A185E7CC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6C4-0A1F-40AF-B2CB-404DC1C4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603-8A32-4083-8D29-8051F2A3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F51-0FAA-4DF5-9CEB-D321D6A1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BFF-45B4-46D8-AC4C-572C7E1C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068-8C6C-4510-8504-CB67E2D0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30B-E0B8-439D-BCAF-DB4FC177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890-B324-4F1A-AB46-6888AF69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A9E-7CF1-40D9-83AE-D41ACC22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45F-12C4-4754-875A-D7C30C5F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05C1-3B08-4CF2-9FCC-18E7BB283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ttp://3.bp.blogspot.com/-nCnMBcxjqtA/UnB09fA23QI/AAAAAAAAEvY/ziH8N3hYLk4/s1600/Hola+doctor.jpg"/>
          <p:cNvPicPr/>
          <p:nvPr/>
        </p:nvPicPr>
        <p:blipFill>
          <a:blip r:embed="rId1"/>
          <a:stretch/>
        </p:blipFill>
        <p:spPr>
          <a:xfrm>
            <a:off x="228600" y="304920"/>
            <a:ext cx="830592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90720" y="457200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 dio un cala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FDXPZTVHMMFBB1I"/>
          <p:cNvPicPr/>
          <p:nvPr/>
        </p:nvPicPr>
        <p:blipFill>
          <a:blip r:embed="rId1"/>
          <a:stretch/>
        </p:blipFill>
        <p:spPr>
          <a:xfrm>
            <a:off x="1219320" y="1219320"/>
            <a:ext cx="54291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th?id=HN"/>
          <p:cNvPicPr/>
          <p:nvPr/>
        </p:nvPicPr>
        <p:blipFill>
          <a:blip r:embed="rId1"/>
          <a:stretch/>
        </p:blipFill>
        <p:spPr>
          <a:xfrm>
            <a:off x="1905120" y="914400"/>
            <a:ext cx="3657600" cy="24764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52280" y="358128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arse un golpe en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8600" y="464832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Me di un golpe en la rodil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nfografia_10_alimentos_para_combatir_el_resfriado.png (998×890)"/>
          <p:cNvPicPr/>
          <p:nvPr/>
        </p:nvPicPr>
        <p:blipFill>
          <a:blip r:embed="rId1"/>
          <a:stretch/>
        </p:blipFill>
        <p:spPr>
          <a:xfrm>
            <a:off x="304920" y="100080"/>
            <a:ext cx="807696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http://4.bp.blogspot.com/-AMK6NGwJSdg/UnCCI7iVOZI/AAAAAAAAEwA/_ml5pbU04mg/s1600/%C3%93rdenes+del+doctor.png"/>
          <p:cNvPicPr/>
          <p:nvPr/>
        </p:nvPicPr>
        <p:blipFill>
          <a:blip r:embed="rId1"/>
          <a:stretch/>
        </p:blipFill>
        <p:spPr>
          <a:xfrm>
            <a:off x="1600200" y="2087640"/>
            <a:ext cx="5943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http://4.bp.blogspot.com/-iLRx3XEPs-Y/UnGXbjuBTQI/AAAAAAAAEwo/zcDsYtXcaTw/s1600/Ficha+para+organizar+el+vocabulario+de+un+tema+(La+salud).jpg"/>
          <p:cNvPicPr/>
          <p:nvPr/>
        </p:nvPicPr>
        <p:blipFill>
          <a:blip r:embed="rId1"/>
          <a:stretch/>
        </p:blipFill>
        <p:spPr>
          <a:xfrm>
            <a:off x="380880" y="228600"/>
            <a:ext cx="8737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6"/>
          <p:cNvSpPr/>
          <p:nvPr/>
        </p:nvSpPr>
        <p:spPr>
          <a:xfrm>
            <a:off x="2590920" y="50292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ferma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La+Fobia+a+enfermarse"/>
          <p:cNvPicPr/>
          <p:nvPr/>
        </p:nvPicPr>
        <p:blipFill>
          <a:blip r:embed="rId1"/>
          <a:stretch/>
        </p:blipFill>
        <p:spPr>
          <a:xfrm>
            <a:off x="2133720" y="609480"/>
            <a:ext cx="502920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905120" y="41148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90920" y="487692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star m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th?id=HN"/>
          <p:cNvPicPr/>
          <p:nvPr/>
        </p:nvPicPr>
        <p:blipFill>
          <a:blip r:embed="rId1"/>
          <a:stretch/>
        </p:blipFill>
        <p:spPr>
          <a:xfrm>
            <a:off x="2286000" y="609480"/>
            <a:ext cx="495288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old"/>
          <p:cNvPicPr/>
          <p:nvPr/>
        </p:nvPicPr>
        <p:blipFill>
          <a:blip r:embed="rId1"/>
          <a:stretch/>
        </p:blipFill>
        <p:spPr>
          <a:xfrm>
            <a:off x="2590920" y="762120"/>
            <a:ext cx="4095720" cy="3549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143000" y="487692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Estar resfriado(a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600200" y="472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762120" y="47242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stornu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sneeze"/>
          <p:cNvPicPr/>
          <p:nvPr/>
        </p:nvPicPr>
        <p:blipFill>
          <a:blip r:embed="rId1"/>
          <a:stretch/>
        </p:blipFill>
        <p:spPr>
          <a:xfrm>
            <a:off x="3200400" y="533520"/>
            <a:ext cx="32194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old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103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th?id=HN"/>
          <p:cNvPicPr/>
          <p:nvPr/>
        </p:nvPicPr>
        <p:blipFill>
          <a:blip r:embed="rId2"/>
          <a:stretch/>
        </p:blipFill>
        <p:spPr>
          <a:xfrm>
            <a:off x="6248520" y="228600"/>
            <a:ext cx="2743200" cy="208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ore_throat"/>
          <p:cNvPicPr/>
          <p:nvPr/>
        </p:nvPicPr>
        <p:blipFill>
          <a:blip r:embed="rId3"/>
          <a:stretch/>
        </p:blipFill>
        <p:spPr>
          <a:xfrm>
            <a:off x="3962520" y="304920"/>
            <a:ext cx="2381040" cy="3448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914400" y="480060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oy mal.  Tengo tos y me duele la garga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http://1.bp.blogspot.com/-b2HmnnHIYUM/UnEAG6dJHLI/AAAAAAAAEwY/CPoqtvZzyik/s1600/Esto+es+lo+que+te+pasa.jpg"/>
          <p:cNvPicPr/>
          <p:nvPr/>
        </p:nvPicPr>
        <p:blipFill>
          <a:blip r:embed="rId2"/>
          <a:stretch/>
        </p:blipFill>
        <p:spPr>
          <a:xfrm>
            <a:off x="838080" y="2133720"/>
            <a:ext cx="724716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609480" y="990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te hie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572000" y="496800"/>
            <a:ext cx="3133800" cy="4184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1905120" y="2832120"/>
            <a:ext cx="281916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5273640" y="5715000"/>
            <a:ext cx="340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édate en c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38088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ansa mu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mdacosta\Local Settings\Temporary Internet Files\Content.IE5\CAFAHBF5\MC900440522[1].wmf"/>
          <p:cNvPicPr/>
          <p:nvPr/>
        </p:nvPicPr>
        <p:blipFill>
          <a:blip r:embed="rId1"/>
          <a:stretch/>
        </p:blipFill>
        <p:spPr>
          <a:xfrm>
            <a:off x="3200400" y="4594320"/>
            <a:ext cx="1828800" cy="1292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mdacosta\Local Settings\Temporary Internet Files\Content.IE5\D19B470C\MM900283964[1].gif"/>
          <p:cNvPicPr/>
          <p:nvPr/>
        </p:nvPicPr>
        <p:blipFill>
          <a:blip r:embed="rId2"/>
          <a:stretch/>
        </p:blipFill>
        <p:spPr>
          <a:xfrm>
            <a:off x="4121280" y="2362320"/>
            <a:ext cx="2290680" cy="21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Documents and Settings\mdacosta\Local Settings\Temporary Internet Files\Content.IE5\CAFAHBF5\MC900389202[1].wmf"/>
          <p:cNvPicPr/>
          <p:nvPr/>
        </p:nvPicPr>
        <p:blipFill>
          <a:blip r:embed="rId3"/>
          <a:stretch/>
        </p:blipFill>
        <p:spPr>
          <a:xfrm>
            <a:off x="2438280" y="1133640"/>
            <a:ext cx="2286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03440" y="1143000"/>
            <a:ext cx="38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z mucho 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ocuments and Settings\mdacosta\Local Settings\Temporary Internet Files\Content.IE5\D19B470C\MM900286723[1].gif"/>
          <p:cNvPicPr/>
          <p:nvPr/>
        </p:nvPicPr>
        <p:blipFill>
          <a:blip r:embed="rId1"/>
          <a:stretch/>
        </p:blipFill>
        <p:spPr>
          <a:xfrm>
            <a:off x="3809880" y="1981080"/>
            <a:ext cx="3353040" cy="2473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mdacosta\Local Settings\Temporary Internet Files\Content.IE5\CAFAHBF5\MM900303486[1].gif"/>
          <p:cNvPicPr/>
          <p:nvPr/>
        </p:nvPicPr>
        <p:blipFill>
          <a:blip r:embed="rId2"/>
          <a:stretch/>
        </p:blipFill>
        <p:spPr>
          <a:xfrm>
            <a:off x="990720" y="2963880"/>
            <a:ext cx="23446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4204440" y="68904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unas aspir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4817880" y="5715000"/>
            <a:ext cx="36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este jar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Documents and Settings\mdacosta\Local Settings\Temporary Internet Files\Content.IE5\D19B470C\dglxasset[1].aspx"/>
          <p:cNvPicPr/>
          <p:nvPr/>
        </p:nvPicPr>
        <p:blipFill>
          <a:blip r:embed="rId1"/>
          <a:stretch/>
        </p:blipFill>
        <p:spPr>
          <a:xfrm>
            <a:off x="6607080" y="2684520"/>
            <a:ext cx="1692360" cy="181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mdacosta\Local Settings\Temporary Internet Files\Content.IE5\2OV1GFQE\MC900319678[1].wmf"/>
          <p:cNvPicPr/>
          <p:nvPr/>
        </p:nvPicPr>
        <p:blipFill>
          <a:blip r:embed="rId2"/>
          <a:stretch/>
        </p:blipFill>
        <p:spPr>
          <a:xfrm>
            <a:off x="519120" y="4695840"/>
            <a:ext cx="1820880" cy="1603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mdacosta\Local Settings\Temporary Internet Files\Content.IE5\D19B470C\dglxasset[2].aspx"/>
          <p:cNvPicPr/>
          <p:nvPr/>
        </p:nvPicPr>
        <p:blipFill>
          <a:blip r:embed="rId3"/>
          <a:stretch/>
        </p:blipFill>
        <p:spPr>
          <a:xfrm>
            <a:off x="2535120" y="4502160"/>
            <a:ext cx="1619280" cy="2117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C:\Documents and Settings\mdacosta\Local Settings\Temporary Internet Files\Content.IE5\2OV1GFQE\dglxasset[1].aspx"/>
          <p:cNvPicPr/>
          <p:nvPr/>
        </p:nvPicPr>
        <p:blipFill>
          <a:blip r:embed="rId4"/>
          <a:stretch/>
        </p:blipFill>
        <p:spPr>
          <a:xfrm>
            <a:off x="4773600" y="2711520"/>
            <a:ext cx="1833480" cy="1790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255600" y="34920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99" name="TextBox 9"/>
          <p:cNvSpPr/>
          <p:nvPr/>
        </p:nvSpPr>
        <p:spPr>
          <a:xfrm>
            <a:off x="275040" y="3149640"/>
            <a:ext cx="41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ómate unas pastil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eft Arrow 8"/>
          <p:cNvSpPr/>
          <p:nvPr/>
        </p:nvSpPr>
        <p:spPr>
          <a:xfrm>
            <a:off x="2971800" y="981000"/>
            <a:ext cx="1182600" cy="292320"/>
          </a:xfrm>
          <a:prstGeom prst="leftArrow">
            <a:avLst>
              <a:gd name="adj1" fmla="val 50000"/>
              <a:gd name="adj2" fmla="val 4995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ight Arrow 10"/>
          <p:cNvSpPr/>
          <p:nvPr/>
        </p:nvSpPr>
        <p:spPr>
          <a:xfrm>
            <a:off x="4519440" y="3371760"/>
            <a:ext cx="562320" cy="4431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eft Arrow 16"/>
          <p:cNvSpPr/>
          <p:nvPr/>
        </p:nvSpPr>
        <p:spPr>
          <a:xfrm rot="1162800">
            <a:off x="3606840" y="5672160"/>
            <a:ext cx="1182600" cy="355680"/>
          </a:xfrm>
          <a:prstGeom prst="leftArrow">
            <a:avLst>
              <a:gd name="adj1" fmla="val 50000"/>
              <a:gd name="adj2" fmla="val 499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C:\Documents and Settings\mdacosta\Local Settings\Temporary Internet Files\Content.IE5\ZO0Z8535\MM900283638[1].gif"/>
          <p:cNvPicPr/>
          <p:nvPr/>
        </p:nvPicPr>
        <p:blipFill>
          <a:blip r:embed="rId1"/>
          <a:stretch/>
        </p:blipFill>
        <p:spPr>
          <a:xfrm>
            <a:off x="6553080" y="3581280"/>
            <a:ext cx="1843200" cy="2613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C:\Documents and Settings\mdacosta\Local Settings\Temporary Internet Files\Content.IE5\D19B470C\MC900438751[1].jpg"/>
          <p:cNvPicPr/>
          <p:nvPr/>
        </p:nvPicPr>
        <p:blipFill>
          <a:blip r:embed="rId2"/>
          <a:stretch/>
        </p:blipFill>
        <p:spPr>
          <a:xfrm>
            <a:off x="6019920" y="747720"/>
            <a:ext cx="1885680" cy="2514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Documents and Settings\mdacosta\Local Settings\Temporary Internet Files\Content.IE5\CAFAHBF5\MM900283654[1].gif"/>
          <p:cNvPicPr/>
          <p:nvPr/>
        </p:nvPicPr>
        <p:blipFill>
          <a:blip r:embed="rId3"/>
          <a:stretch/>
        </p:blipFill>
        <p:spPr>
          <a:xfrm>
            <a:off x="3657600" y="876240"/>
            <a:ext cx="2081160" cy="2257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690840" y="1143000"/>
            <a:ext cx="32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torcí la rod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3359520" y="4595760"/>
            <a:ext cx="342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áte la rodi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ttp://4.bp.blogspot.com/-VNeJED2FIcw/UnB8OVET0uI/AAAAAAAAEvo/9loKWPcwzbY/s1600/Qu%C3%A9+le+pasa.jpg"/>
          <p:cNvPicPr/>
          <p:nvPr/>
        </p:nvPicPr>
        <p:blipFill>
          <a:blip r:embed="rId1"/>
          <a:stretch/>
        </p:blipFill>
        <p:spPr>
          <a:xfrm>
            <a:off x="1523880" y="762120"/>
            <a:ext cx="44578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La salud depende mucho de lo que comemos!!"/>
          <p:cNvPicPr/>
          <p:nvPr/>
        </p:nvPicPr>
        <p:blipFill>
          <a:blip r:embed="rId1"/>
          <a:stretch/>
        </p:blipFill>
        <p:spPr>
          <a:xfrm>
            <a:off x="914400" y="457200"/>
            <a:ext cx="6858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-152280" y="1828800"/>
            <a:ext cx="441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cortar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th?id=HN"/>
          <p:cNvPicPr/>
          <p:nvPr/>
        </p:nvPicPr>
        <p:blipFill>
          <a:blip r:embed="rId1"/>
          <a:stretch/>
        </p:blipFill>
        <p:spPr>
          <a:xfrm>
            <a:off x="3809880" y="304920"/>
            <a:ext cx="4286520" cy="4495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0" y="48006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e corté el de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304920" y="502920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hora lo tengo infect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A paronychia"/>
          <p:cNvPicPr/>
          <p:nvPr/>
        </p:nvPicPr>
        <p:blipFill>
          <a:blip r:embed="rId1"/>
          <a:stretch/>
        </p:blipFill>
        <p:spPr>
          <a:xfrm>
            <a:off x="2133720" y="990720"/>
            <a:ext cx="38671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th?id=HN"/>
          <p:cNvPicPr/>
          <p:nvPr/>
        </p:nvPicPr>
        <p:blipFill>
          <a:blip r:embed="rId1"/>
          <a:stretch/>
        </p:blipFill>
        <p:spPr>
          <a:xfrm>
            <a:off x="3352680" y="344520"/>
            <a:ext cx="406728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0" y="180648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a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04920" y="4648320"/>
            <a:ext cx="426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 caí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 cay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609480" y="441972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stá hinch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Nd9GcTM8PUnIgYPcLeezLsQCnRI0kyq0BbdvhlheGvy3nxa6fQBIr86"/>
          <p:cNvPicPr/>
          <p:nvPr/>
        </p:nvPicPr>
        <p:blipFill>
          <a:blip r:embed="rId1"/>
          <a:stretch/>
        </p:blipFill>
        <p:spPr>
          <a:xfrm>
            <a:off x="1219320" y="533520"/>
            <a:ext cx="37177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band-aid"/>
          <p:cNvPicPr/>
          <p:nvPr/>
        </p:nvPicPr>
        <p:blipFill>
          <a:blip r:embed="rId1"/>
          <a:stretch/>
        </p:blipFill>
        <p:spPr>
          <a:xfrm>
            <a:off x="152280" y="1600200"/>
            <a:ext cx="6524640" cy="3998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62120" y="472428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nte una cur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5720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na cur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6:52:50Z</dcterms:created>
  <dc:creator>User</dc:creator>
  <dc:description/>
  <dc:language>en-US</dc:language>
  <cp:lastModifiedBy>Monica</cp:lastModifiedBy>
  <dcterms:modified xsi:type="dcterms:W3CDTF">2015-09-15T06:21:11Z</dcterms:modified>
  <cp:revision>19</cp:revision>
  <dc:subject/>
  <dc:title>Slide 1</dc:title>
</cp:coreProperties>
</file>