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0B0-4726-4BDB-A5B8-EA1F69D6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420-7CE7-4F46-9C18-9708E182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DB3-93C2-4553-ABE8-903E20F5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881-7090-4FA8-BA57-5DC734D1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DDA-75EC-44B9-8D67-B5814BF8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C3D-408D-4436-8173-583A53EB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AF4-BCA0-4A20-8269-9A0F74BB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4F7-945C-43A0-9087-B8E24D5D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E0B-3F25-4DC6-B061-6E79FD18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F13E-E0E9-42B2-8221-218A9B8F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3B1-A19E-4793-8A3F-CC24C8EE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196-C93B-4021-8574-9B5FA71B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AA4-0C0C-42D5-9D5B-4ED721659E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Arial"/>
              </a:rPr>
              <a:t>¿Has visto estas comidas/bebidas?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Has probado estas comidas/beb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ojala9"/>
          <p:cNvPicPr/>
          <p:nvPr/>
        </p:nvPicPr>
        <p:blipFill>
          <a:blip r:embed="rId1"/>
          <a:stretch/>
        </p:blipFill>
        <p:spPr>
          <a:xfrm>
            <a:off x="0" y="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ojala10a"/>
          <p:cNvPicPr/>
          <p:nvPr/>
        </p:nvPicPr>
        <p:blipFill>
          <a:blip r:embed="rId1"/>
          <a:stretch/>
        </p:blipFill>
        <p:spPr>
          <a:xfrm>
            <a:off x="2971800" y="2228760"/>
            <a:ext cx="6172200" cy="462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ojala10"/>
          <p:cNvPicPr/>
          <p:nvPr/>
        </p:nvPicPr>
        <p:blipFill>
          <a:blip r:embed="rId2"/>
          <a:stretch/>
        </p:blipFill>
        <p:spPr>
          <a:xfrm>
            <a:off x="0" y="34920"/>
            <a:ext cx="5715000" cy="3141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28600" y="4743360"/>
            <a:ext cx="223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isal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ojala11a"/>
          <p:cNvPicPr/>
          <p:nvPr/>
        </p:nvPicPr>
        <p:blipFill>
          <a:blip r:embed="rId1"/>
          <a:stretch/>
        </p:blipFill>
        <p:spPr>
          <a:xfrm>
            <a:off x="3048120" y="213372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ojala11"/>
          <p:cNvPicPr/>
          <p:nvPr/>
        </p:nvPicPr>
        <p:blipFill>
          <a:blip r:embed="rId2"/>
          <a:stretch/>
        </p:blipFill>
        <p:spPr>
          <a:xfrm>
            <a:off x="0" y="0"/>
            <a:ext cx="5257800" cy="2881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85800" y="4440240"/>
            <a:ext cx="27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ta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ojala11b"/>
          <p:cNvPicPr/>
          <p:nvPr/>
        </p:nvPicPr>
        <p:blipFill>
          <a:blip r:embed="rId1"/>
          <a:stretch/>
        </p:blipFill>
        <p:spPr>
          <a:xfrm>
            <a:off x="-630360" y="-471600"/>
            <a:ext cx="10404720" cy="78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ojala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52480" y="152280"/>
            <a:ext cx="5527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unos verbos en el subjuntivo……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¿Ca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¿L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Arial"/>
              </a:rPr>
              <a:t>¿Vest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¿Sufr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Arial"/>
              </a:rPr>
              <a:t>¿Oí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¿Can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ojala13"/>
          <p:cNvPicPr/>
          <p:nvPr/>
        </p:nvPicPr>
        <p:blipFill>
          <a:blip r:embed="rId1"/>
          <a:stretch/>
        </p:blipFill>
        <p:spPr>
          <a:xfrm>
            <a:off x="0" y="0"/>
            <a:ext cx="473400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724280" y="2057400"/>
            <a:ext cx="459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igo:  C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tú no ____________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ojala14"/>
          <p:cNvPicPr/>
          <p:nvPr/>
        </p:nvPicPr>
        <p:blipFill>
          <a:blip r:embed="rId1"/>
          <a:stretch/>
        </p:blipFill>
        <p:spPr>
          <a:xfrm>
            <a:off x="201600" y="0"/>
            <a:ext cx="5545080" cy="6629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5715000" y="1447920"/>
            <a:ext cx="316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lueve:  Llue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jalá que no _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ñan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ojala15"/>
          <p:cNvPicPr/>
          <p:nvPr/>
        </p:nvPicPr>
        <p:blipFill>
          <a:blip r:embed="rId1"/>
          <a:stretch/>
        </p:blipFill>
        <p:spPr>
          <a:xfrm>
            <a:off x="-1523880" y="-1324080"/>
            <a:ext cx="12191760" cy="9506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528200" y="5257800"/>
            <a:ext cx="689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st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te:  Vis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jalá que ella se _______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 ropa nuev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ojala16"/>
          <p:cNvPicPr/>
          <p:nvPr/>
        </p:nvPicPr>
        <p:blipFill>
          <a:blip r:embed="rId1"/>
          <a:stretch/>
        </p:blipFill>
        <p:spPr>
          <a:xfrm>
            <a:off x="95400" y="0"/>
            <a:ext cx="3314520" cy="4419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ojala16a"/>
          <p:cNvPicPr/>
          <p:nvPr/>
        </p:nvPicPr>
        <p:blipFill>
          <a:blip r:embed="rId2"/>
          <a:stretch/>
        </p:blipFill>
        <p:spPr>
          <a:xfrm>
            <a:off x="3505320" y="0"/>
            <a:ext cx="5638680" cy="3571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2216880" y="3886200"/>
            <a:ext cx="833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fre:  Suf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los pájaros no 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 el tiempo frí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jala1"/>
          <p:cNvPicPr/>
          <p:nvPr/>
        </p:nvPicPr>
        <p:blipFill>
          <a:blip r:embed="rId1"/>
          <a:stretch/>
        </p:blipFill>
        <p:spPr>
          <a:xfrm>
            <a:off x="0" y="0"/>
            <a:ext cx="5251320" cy="384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ojala1a"/>
          <p:cNvPicPr/>
          <p:nvPr/>
        </p:nvPicPr>
        <p:blipFill>
          <a:blip r:embed="rId2"/>
          <a:stretch/>
        </p:blipFill>
        <p:spPr>
          <a:xfrm>
            <a:off x="4854600" y="0"/>
            <a:ext cx="428940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ojala1b"/>
          <p:cNvPicPr/>
          <p:nvPr/>
        </p:nvPicPr>
        <p:blipFill>
          <a:blip r:embed="rId3"/>
          <a:stretch/>
        </p:blipFill>
        <p:spPr>
          <a:xfrm>
            <a:off x="0" y="3686040"/>
            <a:ext cx="7086600" cy="3171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4191120" y="1600200"/>
            <a:ext cx="19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c1f00"/>
                </a:solidFill>
                <a:latin typeface="Arial"/>
              </a:rPr>
              <a:t>Yu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ojala17"/>
          <p:cNvPicPr/>
          <p:nvPr/>
        </p:nvPicPr>
        <p:blipFill>
          <a:blip r:embed="rId1"/>
          <a:stretch/>
        </p:blipFill>
        <p:spPr>
          <a:xfrm>
            <a:off x="0" y="0"/>
            <a:ext cx="338616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ojala17a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4292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1148400" y="4724280"/>
            <a:ext cx="778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í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go:  Oi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jalá que ellos me ______________________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ojala18"/>
          <p:cNvPicPr/>
          <p:nvPr/>
        </p:nvPicPr>
        <p:blipFill>
          <a:blip r:embed="rId1"/>
          <a:stretch/>
        </p:blipFill>
        <p:spPr>
          <a:xfrm>
            <a:off x="0" y="0"/>
            <a:ext cx="4676760" cy="398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jala18a"/>
          <p:cNvPicPr/>
          <p:nvPr/>
        </p:nvPicPr>
        <p:blipFill>
          <a:blip r:embed="rId2"/>
          <a:stretch/>
        </p:blipFill>
        <p:spPr>
          <a:xfrm>
            <a:off x="4876920" y="762120"/>
            <a:ext cx="4267080" cy="42195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59840" y="4191120"/>
            <a:ext cx="805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to:  Ca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jalá que Uds. __________ mej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 y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jala2a"/>
          <p:cNvPicPr/>
          <p:nvPr/>
        </p:nvPicPr>
        <p:blipFill>
          <a:blip r:embed="rId1"/>
          <a:stretch/>
        </p:blipFill>
        <p:spPr>
          <a:xfrm>
            <a:off x="3429000" y="2266920"/>
            <a:ext cx="5715000" cy="443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jala2"/>
          <p:cNvPicPr/>
          <p:nvPr/>
        </p:nvPicPr>
        <p:blipFill>
          <a:blip r:embed="rId2"/>
          <a:stretch/>
        </p:blipFill>
        <p:spPr>
          <a:xfrm>
            <a:off x="0" y="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jal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ojal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5778360" y="3803760"/>
            <a:ext cx="1421280" cy="703440"/>
          </a:xfrm>
          <a:prstGeom prst="rect">
            <a:avLst/>
          </a:prstGeom>
          <a:solidFill>
            <a:srgbClr val="dfd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Berr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ojala5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943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5867280" y="1219320"/>
            <a:ext cx="13654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i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ojala6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jala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482360" y="4336920"/>
            <a:ext cx="13359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ri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ojala8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553080" y="5334120"/>
            <a:ext cx="21733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pu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3:47:30Z</dcterms:created>
  <dc:creator>SBirch</dc:creator>
  <dc:description/>
  <dc:language>en-US</dc:language>
  <cp:lastModifiedBy>staff</cp:lastModifiedBy>
  <dcterms:modified xsi:type="dcterms:W3CDTF">2015-03-17T16:23:41Z</dcterms:modified>
  <cp:revision>3</cp:revision>
  <dc:subject/>
  <dc:title>¿Has visto estas comidas?</dc:title>
</cp:coreProperties>
</file>