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D90E-F325-4045-B044-F2880703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912-8265-4319-8A6C-71001C8D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097-AFBD-4D24-A777-77E4B037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591-936E-4F85-B0D0-C9382F3E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BD33-7563-49EE-A09C-729E302A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774-D1DD-49CD-81A5-72C616A9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46B-FF89-4ABC-BF08-21F0ADB4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11C-EAB1-4784-BA13-3E0B64FF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6F48-9D19-477E-A3E9-50A13319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36B-4DFE-4D4B-885D-89EE93F1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3DFB-8499-4589-9CAD-540AA51C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8A1-700C-45CC-946D-A19F93DA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323F-42FC-44FD-9A03-F04E0C3CFC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¿Has visto estas comidas/bebidas?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Has probado estas comidas/beb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jala9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ojala10a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ojala10"/>
          <p:cNvPicPr/>
          <p:nvPr/>
        </p:nvPicPr>
        <p:blipFill>
          <a:blip r:embed="rId2"/>
          <a:stretch/>
        </p:blipFill>
        <p:spPr>
          <a:xfrm>
            <a:off x="0" y="34920"/>
            <a:ext cx="57150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28600" y="474336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isal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ojala11a"/>
          <p:cNvPicPr/>
          <p:nvPr/>
        </p:nvPicPr>
        <p:blipFill>
          <a:blip r:embed="rId1"/>
          <a:stretch/>
        </p:blipFill>
        <p:spPr>
          <a:xfrm>
            <a:off x="3048120" y="21337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ojala11"/>
          <p:cNvPicPr/>
          <p:nvPr/>
        </p:nvPicPr>
        <p:blipFill>
          <a:blip r:embed="rId2"/>
          <a:stretch/>
        </p:blipFill>
        <p:spPr>
          <a:xfrm>
            <a:off x="0" y="0"/>
            <a:ext cx="525780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85800" y="44402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ojala11b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ojal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52480" y="152280"/>
            <a:ext cx="552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unos verbos en el subjuntivo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¿Ca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¿L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¿Vest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¿Sufr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¿Oí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¿Can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jala13"/>
          <p:cNvPicPr/>
          <p:nvPr/>
        </p:nvPicPr>
        <p:blipFill>
          <a:blip r:embed="rId1"/>
          <a:stretch/>
        </p:blipFill>
        <p:spPr>
          <a:xfrm>
            <a:off x="0" y="0"/>
            <a:ext cx="473400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724280" y="2057400"/>
            <a:ext cx="459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igo:  C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tú no __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ojala14"/>
          <p:cNvPicPr/>
          <p:nvPr/>
        </p:nvPicPr>
        <p:blipFill>
          <a:blip r:embed="rId1"/>
          <a:stretch/>
        </p:blipFill>
        <p:spPr>
          <a:xfrm>
            <a:off x="201600" y="0"/>
            <a:ext cx="554508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15000" y="144792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ueve:  Llue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jalá que no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ña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ojala15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28200" y="5257800"/>
            <a:ext cx="689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s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te:  Vis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jalá que ella se 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ropa nuev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ojala16"/>
          <p:cNvPicPr/>
          <p:nvPr/>
        </p:nvPicPr>
        <p:blipFill>
          <a:blip r:embed="rId1"/>
          <a:stretch/>
        </p:blipFill>
        <p:spPr>
          <a:xfrm>
            <a:off x="9540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ojala16a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357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216880" y="3886200"/>
            <a:ext cx="833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e:  Suf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los pájaros no 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 el tiempo frí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jala1"/>
          <p:cNvPicPr/>
          <p:nvPr/>
        </p:nvPicPr>
        <p:blipFill>
          <a:blip r:embed="rId1"/>
          <a:stretch/>
        </p:blipFill>
        <p:spPr>
          <a:xfrm>
            <a:off x="0" y="0"/>
            <a:ext cx="5251320" cy="384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ojala1a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ojala1b"/>
          <p:cNvPicPr/>
          <p:nvPr/>
        </p:nvPicPr>
        <p:blipFill>
          <a:blip r:embed="rId3"/>
          <a:stretch/>
        </p:blipFill>
        <p:spPr>
          <a:xfrm>
            <a:off x="0" y="3686040"/>
            <a:ext cx="7086600" cy="31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191120" y="1600200"/>
            <a:ext cx="19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Yu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jala17"/>
          <p:cNvPicPr/>
          <p:nvPr/>
        </p:nvPicPr>
        <p:blipFill>
          <a:blip r:embed="rId1"/>
          <a:stretch/>
        </p:blipFill>
        <p:spPr>
          <a:xfrm>
            <a:off x="0" y="0"/>
            <a:ext cx="338616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ojala17a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48400" y="4724280"/>
            <a:ext cx="77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go:  O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jalá que ellos me ______________________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ojala18"/>
          <p:cNvPicPr/>
          <p:nvPr/>
        </p:nvPicPr>
        <p:blipFill>
          <a:blip r:embed="rId1"/>
          <a:stretch/>
        </p:blipFill>
        <p:spPr>
          <a:xfrm>
            <a:off x="0" y="0"/>
            <a:ext cx="46767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jala18a"/>
          <p:cNvPicPr/>
          <p:nvPr/>
        </p:nvPicPr>
        <p:blipFill>
          <a:blip r:embed="rId2"/>
          <a:stretch/>
        </p:blipFill>
        <p:spPr>
          <a:xfrm>
            <a:off x="4876920" y="762120"/>
            <a:ext cx="4267080" cy="4219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9840" y="4191120"/>
            <a:ext cx="80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o:  C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Uds. __________ mej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y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jala2a"/>
          <p:cNvPicPr/>
          <p:nvPr/>
        </p:nvPicPr>
        <p:blipFill>
          <a:blip r:embed="rId1"/>
          <a:stretch/>
        </p:blipFill>
        <p:spPr>
          <a:xfrm>
            <a:off x="3429000" y="226692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jala2"/>
          <p:cNvPicPr/>
          <p:nvPr/>
        </p:nvPicPr>
        <p:blipFill>
          <a:blip r:embed="rId2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jal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jal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778360" y="3803760"/>
            <a:ext cx="1421280" cy="70344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er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jala5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867280" y="1219320"/>
            <a:ext cx="13654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ojala6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jala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482360" y="4336920"/>
            <a:ext cx="1335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i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ojala8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334120"/>
            <a:ext cx="2173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pu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47:30Z</dcterms:created>
  <dc:creator>SBirch</dc:creator>
  <dc:description/>
  <dc:language>en-US</dc:language>
  <cp:lastModifiedBy>staff</cp:lastModifiedBy>
  <dcterms:modified xsi:type="dcterms:W3CDTF">2015-03-17T16:23:41Z</dcterms:modified>
  <cp:revision>3</cp:revision>
  <dc:subject/>
  <dc:title>¿Has visto estas comidas?</dc:title>
</cp:coreProperties>
</file>