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CB9-7D82-4E3D-B30E-8196C4D8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AAD-CD28-41D1-A1E7-ABE5560D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1A8-051B-4E91-A308-03A7A9FF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64A-6D11-49C3-8886-802B73D8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5F7-AAA0-47A2-98B3-CE3DF846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036-BBAC-476E-821E-48EB15D2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9A0-6013-4081-9A20-09C3030A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B27-E599-41B4-B91D-034BD54B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62C-A3E2-43F4-A6C1-8D1AC09A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BED-8F19-480F-B5F5-5B32A754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A6D-0BE5-41B9-84C2-2FD36E66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114-FE13-43AF-AD8A-DB4D7434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9E22-E2B4-411A-AA1E-F3E59D8CE5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¿Has visto estas comidas/bebidas?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¿Has probado estas comidas/bebid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ojala9"/>
          <p:cNvPicPr/>
          <p:nvPr/>
        </p:nvPicPr>
        <p:blipFill>
          <a:blip r:embed="rId1"/>
          <a:stretch/>
        </p:blipFill>
        <p:spPr>
          <a:xfrm>
            <a:off x="0" y="0"/>
            <a:ext cx="914400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ojala10a"/>
          <p:cNvPicPr/>
          <p:nvPr/>
        </p:nvPicPr>
        <p:blipFill>
          <a:blip r:embed="rId1"/>
          <a:stretch/>
        </p:blipFill>
        <p:spPr>
          <a:xfrm>
            <a:off x="2971800" y="222876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ojala10"/>
          <p:cNvPicPr/>
          <p:nvPr/>
        </p:nvPicPr>
        <p:blipFill>
          <a:blip r:embed="rId2"/>
          <a:stretch/>
        </p:blipFill>
        <p:spPr>
          <a:xfrm>
            <a:off x="0" y="34920"/>
            <a:ext cx="5715000" cy="3141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228600" y="4743360"/>
            <a:ext cx="22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tisal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ojala11a"/>
          <p:cNvPicPr/>
          <p:nvPr/>
        </p:nvPicPr>
        <p:blipFill>
          <a:blip r:embed="rId1"/>
          <a:stretch/>
        </p:blipFill>
        <p:spPr>
          <a:xfrm>
            <a:off x="3048120" y="213372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ojala11"/>
          <p:cNvPicPr/>
          <p:nvPr/>
        </p:nvPicPr>
        <p:blipFill>
          <a:blip r:embed="rId2"/>
          <a:stretch/>
        </p:blipFill>
        <p:spPr>
          <a:xfrm>
            <a:off x="0" y="0"/>
            <a:ext cx="5257800" cy="2881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85800" y="44402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ojala11b"/>
          <p:cNvPicPr/>
          <p:nvPr/>
        </p:nvPicPr>
        <p:blipFill>
          <a:blip r:embed="rId1"/>
          <a:stretch/>
        </p:blipFill>
        <p:spPr>
          <a:xfrm>
            <a:off x="-630360" y="-471600"/>
            <a:ext cx="1040472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ojal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752480" y="152280"/>
            <a:ext cx="552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gunos verbos en el subjuntivo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¿Ca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¿Ll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¿Vest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¿Sufr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¿Oí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¿Can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ojala13"/>
          <p:cNvPicPr/>
          <p:nvPr/>
        </p:nvPicPr>
        <p:blipFill>
          <a:blip r:embed="rId1"/>
          <a:stretch/>
        </p:blipFill>
        <p:spPr>
          <a:xfrm>
            <a:off x="0" y="0"/>
            <a:ext cx="473400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724280" y="2057400"/>
            <a:ext cx="459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igo:  C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tú no ____________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ojala14"/>
          <p:cNvPicPr/>
          <p:nvPr/>
        </p:nvPicPr>
        <p:blipFill>
          <a:blip r:embed="rId1"/>
          <a:stretch/>
        </p:blipFill>
        <p:spPr>
          <a:xfrm>
            <a:off x="201600" y="0"/>
            <a:ext cx="5545080" cy="6629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5715000" y="1447920"/>
            <a:ext cx="316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l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lueve:  Llue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jalá que no _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ñan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ojala15"/>
          <p:cNvPicPr/>
          <p:nvPr/>
        </p:nvPicPr>
        <p:blipFill>
          <a:blip r:embed="rId1"/>
          <a:stretch/>
        </p:blipFill>
        <p:spPr>
          <a:xfrm>
            <a:off x="-1523880" y="-1324080"/>
            <a:ext cx="12191760" cy="9506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528200" y="5257800"/>
            <a:ext cx="689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st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te:  Vis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jalá que ella se 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 ropa nuev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ojala16"/>
          <p:cNvPicPr/>
          <p:nvPr/>
        </p:nvPicPr>
        <p:blipFill>
          <a:blip r:embed="rId1"/>
          <a:stretch/>
        </p:blipFill>
        <p:spPr>
          <a:xfrm>
            <a:off x="95400" y="0"/>
            <a:ext cx="3314520" cy="441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ojala16a"/>
          <p:cNvPicPr/>
          <p:nvPr/>
        </p:nvPicPr>
        <p:blipFill>
          <a:blip r:embed="rId2"/>
          <a:stretch/>
        </p:blipFill>
        <p:spPr>
          <a:xfrm>
            <a:off x="3505320" y="0"/>
            <a:ext cx="5638680" cy="3571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2216880" y="3886200"/>
            <a:ext cx="833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fr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fre:  Suf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los pájaros no _____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 el tiempo frí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ojala1"/>
          <p:cNvPicPr/>
          <p:nvPr/>
        </p:nvPicPr>
        <p:blipFill>
          <a:blip r:embed="rId1"/>
          <a:stretch/>
        </p:blipFill>
        <p:spPr>
          <a:xfrm>
            <a:off x="0" y="0"/>
            <a:ext cx="5251320" cy="384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ojala1a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55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ojala1b"/>
          <p:cNvPicPr/>
          <p:nvPr/>
        </p:nvPicPr>
        <p:blipFill>
          <a:blip r:embed="rId3"/>
          <a:stretch/>
        </p:blipFill>
        <p:spPr>
          <a:xfrm>
            <a:off x="0" y="3686040"/>
            <a:ext cx="7086600" cy="3171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4191120" y="1600200"/>
            <a:ext cx="1981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1f00"/>
                </a:solidFill>
                <a:latin typeface="Arial"/>
              </a:rPr>
              <a:t>Yu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ojala17"/>
          <p:cNvPicPr/>
          <p:nvPr/>
        </p:nvPicPr>
        <p:blipFill>
          <a:blip r:embed="rId1"/>
          <a:stretch/>
        </p:blipFill>
        <p:spPr>
          <a:xfrm>
            <a:off x="0" y="0"/>
            <a:ext cx="3386160" cy="403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ojala17a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148400" y="4724280"/>
            <a:ext cx="778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í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igo:  O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jalá que ellos me ______________________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ojala18"/>
          <p:cNvPicPr/>
          <p:nvPr/>
        </p:nvPicPr>
        <p:blipFill>
          <a:blip r:embed="rId1"/>
          <a:stretch/>
        </p:blipFill>
        <p:spPr>
          <a:xfrm>
            <a:off x="0" y="0"/>
            <a:ext cx="4676760" cy="398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ojala18a"/>
          <p:cNvPicPr/>
          <p:nvPr/>
        </p:nvPicPr>
        <p:blipFill>
          <a:blip r:embed="rId2"/>
          <a:stretch/>
        </p:blipFill>
        <p:spPr>
          <a:xfrm>
            <a:off x="4876920" y="762120"/>
            <a:ext cx="4267080" cy="4219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59840" y="4191120"/>
            <a:ext cx="805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t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to:  Ca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Uds. __________ mej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 y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jala2a"/>
          <p:cNvPicPr/>
          <p:nvPr/>
        </p:nvPicPr>
        <p:blipFill>
          <a:blip r:embed="rId1"/>
          <a:stretch/>
        </p:blipFill>
        <p:spPr>
          <a:xfrm>
            <a:off x="3429000" y="2266920"/>
            <a:ext cx="5715000" cy="443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ojala2"/>
          <p:cNvPicPr/>
          <p:nvPr/>
        </p:nvPicPr>
        <p:blipFill>
          <a:blip r:embed="rId2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ojal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ojal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778360" y="3803760"/>
            <a:ext cx="1421280" cy="703440"/>
          </a:xfrm>
          <a:prstGeom prst="rect">
            <a:avLst/>
          </a:prstGeom>
          <a:solidFill>
            <a:srgbClr val="dfd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Ber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ojala5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943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5867280" y="1219320"/>
            <a:ext cx="13654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i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ojala6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ojala7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482360" y="4336920"/>
            <a:ext cx="13359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rig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ojala8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6553080" y="5334120"/>
            <a:ext cx="21733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pu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3:47:30Z</dcterms:created>
  <dc:creator>SBirch</dc:creator>
  <dc:description/>
  <dc:language>en-US</dc:language>
  <cp:lastModifiedBy>staff</cp:lastModifiedBy>
  <dcterms:modified xsi:type="dcterms:W3CDTF">2015-03-17T16:23:41Z</dcterms:modified>
  <cp:revision>3</cp:revision>
  <dc:subject/>
  <dc:title>¿Has visto estas comidas?</dc:title>
</cp:coreProperties>
</file>