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2D8-6078-4763-9C7D-F9F1A28B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6A9-500D-4BAF-82D0-425C7820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831-0B65-4BD4-A846-3B1F2045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53D-0613-4372-8760-40F14A96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803-A1C0-498D-BF06-DC4623F7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E58-B3FF-4053-8094-D5DD6302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9A1-54BE-4F9A-AF81-71CFADFD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B82-B773-4DBF-9DD3-BDE0FAE1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21E-020F-46A5-BA29-F41108B7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AF0-F647-4DD3-9911-E91AD1F6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614-60BE-4CA5-B7E4-2C497221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A97-8D2C-437F-BE25-8F52F099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447C-CF75-4A27-801B-3E8D45026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533520" y="152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er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19720" y="12952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343400" y="3886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286000" y="647712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decir exactamente dónde está Guatemala y los países que lo limi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2590920" y="13716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escribir la geografía física de Guatemala  (G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800600" y="13716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la gente de GT en cuanto lo socioeconómico,  la composición étnicaaa y la vida cotidia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304920" y="4038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leer y/o analizar poemas, canciones, videos, y artículos que hablan de los temas relacion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4572000" y="40384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ofrecer varios detalles de las ocuriencias en GT entre los años 1970 y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457200" y="65530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hablar de la orígen de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2514600" y="66294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ofrecer detalles sobre cómo se solucionaron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comunicar la reacción de los EE.UU a esta situ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354920" y="380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s de SLBi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304920" y="3808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Puedo describir el viaje de vida típico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2514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Puedo hablar sobre los derechos y deberes  o falta de derechos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4800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Puedo dar ejemplos de frases en canciones que ejemplifican la vida de un inmig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304920" y="3048120"/>
            <a:ext cx="190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Puedo describir lo que está pasando ahora mismo en GT en cuanto la situación polí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4724280" y="2971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Puedo ofrecer detalles de cómo está respondiendo los EE. 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228600" y="5562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Yo puedo decir por qué la novela se titula Esper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514600" y="556272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Yo puedo contar un nuevo cuento  verdadero de un inmigrante que conozco o que cono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4724280" y="56386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Yo puede decir lo que es el Immigrant Archiv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dcterms:modified xsi:type="dcterms:W3CDTF">2015-11-03T00:45:37Z</dcterms:modified>
  <cp:revision>20</cp:revision>
  <dc:subject/>
  <dc:title>Slide 1</dc:title>
</cp:coreProperties>
</file>