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4D5-59A5-440E-861A-F11E0721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DED-ABD4-4800-B825-90FFD2D2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29C8-4400-4D1F-B29A-5D503344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93B-06DB-41B6-BCC3-53A45F18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E02-CB34-42A4-8456-43C06E31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066-EF9C-464F-B9C4-8901C2FF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ABE-2B41-45D5-8E3A-18855750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23D-935D-4EEC-86C6-3C2EF76D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818-F5D0-4BFE-AFDC-17A28D5B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3C0-D7C2-400B-9D47-66DCAA91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8A8-1807-43FF-B54D-3F92B598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843-D37C-4D86-A86C-79421C97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0B9B-FC2C-4CC0-A2F0-62F09BC38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5:37Z</dcterms:modified>
  <cp:revision>20</cp:revision>
  <dc:subject/>
  <dc:title>Slide 1</dc:title>
</cp:coreProperties>
</file>