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D22-9F15-4A34-87C0-AC027892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73E-71BD-4631-A75D-BDFFA1FF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213-892F-41E6-9D66-1710B52E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3437-0092-4075-935F-2E85FFD5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CA4-E2F6-4BA0-B024-ED7A098A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C24-F6D1-4992-B150-541325C3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7799-128F-4EF0-ACDD-3C73A76D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8AFE-A443-4F22-AE55-E92EE43D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7652-9FBC-4378-956B-3F099A0C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C2C-0F05-4BFD-8A33-43DFA7FB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F860-30C2-4C79-A6EE-83DF8AEA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D5E-A741-40CC-AFC2-047803AB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CC5E-436F-4EAE-ADE8-9E0E3F355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4920" y="1522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Cúrem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62320" y="6477120"/>
            <a:ext cx="236196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Monica\AppData\Local\Microsoft\Windows\Temporary Internet Files\Content.IE5\2NFS6IYH\stethoscope[1].jpg"/>
          <p:cNvPicPr/>
          <p:nvPr/>
        </p:nvPicPr>
        <p:blipFill>
          <a:blip r:embed="rId8"/>
          <a:stretch/>
        </p:blipFill>
        <p:spPr>
          <a:xfrm>
            <a:off x="457200" y="228600"/>
            <a:ext cx="620640" cy="59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Monica\AppData\Local\Microsoft\Windows\Temporary Internet Files\Content.IE5\2NFS6IYH\spilledpills[1].jpg"/>
          <p:cNvPicPr/>
          <p:nvPr/>
        </p:nvPicPr>
        <p:blipFill>
          <a:blip r:embed="rId9"/>
          <a:stretch/>
        </p:blipFill>
        <p:spPr>
          <a:xfrm>
            <a:off x="2438280" y="4038480"/>
            <a:ext cx="1095480" cy="133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Monica\AppData\Local\Microsoft\Windows\Temporary Internet Files\Content.IE5\59A9JS8S\250px-Cleaned-Illustration_Euphorbia_helioscopia[1].jpg"/>
          <p:cNvPicPr/>
          <p:nvPr/>
        </p:nvPicPr>
        <p:blipFill>
          <a:blip r:embed="rId10"/>
          <a:stretch/>
        </p:blipFill>
        <p:spPr>
          <a:xfrm>
            <a:off x="3505320" y="4952880"/>
            <a:ext cx="838080" cy="121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Stamp Blank.JPG"/>
          <p:cNvPicPr/>
          <p:nvPr/>
        </p:nvPicPr>
        <p:blipFill>
          <a:blip r:embed="rId11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I can identify at least 15 body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2"/>
          <p:cNvSpPr/>
          <p:nvPr/>
        </p:nvSpPr>
        <p:spPr>
          <a:xfrm>
            <a:off x="2590920" y="13716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I can tell what hu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487692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I can ask someone what hurts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4"/>
          <p:cNvSpPr/>
          <p:nvPr/>
        </p:nvSpPr>
        <p:spPr>
          <a:xfrm>
            <a:off x="457200" y="39625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I can fill out a simple patien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5"/>
          <p:cNvSpPr/>
          <p:nvPr/>
        </p:nvSpPr>
        <p:spPr>
          <a:xfrm>
            <a:off x="4800600" y="396252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I can understand an article/tweet/story about an inj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6"/>
          <p:cNvSpPr/>
          <p:nvPr/>
        </p:nvSpPr>
        <p:spPr>
          <a:xfrm>
            <a:off x="457200" y="65530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I can ask for some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7"/>
          <p:cNvSpPr/>
          <p:nvPr/>
        </p:nvSpPr>
        <p:spPr>
          <a:xfrm>
            <a:off x="2590920" y="6629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I can understand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I can understand someone describing their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4001760" y="48420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JCPS Stamp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ice-pack.jpg"/>
          <p:cNvPicPr/>
          <p:nvPr/>
        </p:nvPicPr>
        <p:blipFill>
          <a:blip r:embed="rId9"/>
          <a:stretch/>
        </p:blipFill>
        <p:spPr>
          <a:xfrm>
            <a:off x="2438280" y="2971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6"/>
          <p:cNvSpPr/>
          <p:nvPr/>
        </p:nvSpPr>
        <p:spPr>
          <a:xfrm>
            <a:off x="304920" y="3808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I can answer some medical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2514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I can give five (5) pieces of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4800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I can read medical labels, prescriptions, fl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304920" y="30481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I can describe my symptoms/how I f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4724280" y="297180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 I can tell how I got hurt/someone else got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228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I can help someone in a medical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2514600" y="5562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I can identify at least five (5) illnesses based on th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4800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I can understand medicine 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18"/>
          <p:cNvSpPr/>
          <p:nvPr/>
        </p:nvSpPr>
        <p:spPr>
          <a:xfrm>
            <a:off x="228600" y="8077320"/>
            <a:ext cx="64008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57200" y="8153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can compare the medical practices of traditional western medicine to the practices of the Dominican Re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dcterms:modified xsi:type="dcterms:W3CDTF">2015-11-03T00:48:09Z</dcterms:modified>
  <cp:revision>14</cp:revision>
  <dc:subject/>
  <dc:title>Slide 1</dc:title>
</cp:coreProperties>
</file>