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9709-D24A-4CB9-B75B-A0EE5B553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2D9-8440-4393-8227-B6256CFE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E54F-8C9F-4D15-AF69-12D14098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EFF-2557-45AC-A468-98A2DE76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BED-8C1C-4344-8B8E-C62BCF13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6D69-FC92-4231-A25F-DA68BC35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09B-E3A5-4CB0-9F56-C3EC1AD9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3528-95E4-4088-AD0D-35B45AD7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2CCC-D159-41F8-AB79-353CD3F1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E0C-65F4-4172-89F0-679F7034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94F7-E94D-4CB4-984E-5906C2E8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801-1B8F-4FA4-BBA4-113CB2C5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E81E-DF8E-4C07-9122-E6894FD70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8:09Z</dcterms:modified>
  <cp:revision>14</cp:revision>
  <dc:subject/>
  <dc:title>Slide 1</dc:title>
</cp:coreProperties>
</file>