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120-1FAC-4B21-97A9-AD6B2B44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0E5-7873-4B30-98AB-288A4A5D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30C-9080-4C29-B044-A4011127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7B6-6BFF-46E1-B580-D92D63A8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612-39C4-417A-930A-CEAE3590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600-21F2-4FB9-B572-5C8FBB4F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BC2-5C94-471E-9E0B-050D9CE5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444-7080-42B8-8337-DEC785B7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FD2-55B4-457A-98EB-C0766661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34C-EEED-41B5-B87A-25E38F7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4ED-EAF7-4080-9E49-0AACB136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403-6EF5-4CC6-8D1E-E3CE15D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B57F-D0D2-4A2F-ADA0-EBA81D488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8:09Z</dcterms:modified>
  <cp:revision>14</cp:revision>
  <dc:subject/>
  <dc:title>Slide 1</dc:title>
</cp:coreProperties>
</file>