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5A8-2525-40F3-8FFA-0E10FB68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EA9-0B1F-4C50-ACDC-0D81B061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AFE-E1D3-4C64-A148-1DE40340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7EA-7170-40C5-A8A2-5EEE0FE2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B4D-6008-425B-8515-211682B2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BC7-CD5F-4855-8879-777753A9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44D-BC5C-45B1-93D7-EDDB2B0E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5EA-8B44-4C91-9BBD-EC38E58A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F6A-FBD2-42B2-825B-B56128F3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9BB-437E-45FC-B085-4343EA3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C88-0C84-4452-B354-CB7E793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8B4-A694-4AD7-8C14-42877C7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9A87-D00F-485B-A4B3-2AF27FFC2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1-03T00:43:31Z</dcterms:modified>
  <cp:revision>28</cp:revision>
  <dc:subject/>
  <dc:title>Slide 1</dc:title>
</cp:coreProperties>
</file>