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0C0-33D3-4525-8E50-63D92037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33F-5954-491D-8B3E-A3A25BBD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4E5-ED86-48F8-96E5-5CA68BF4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8AA-B4CE-4B81-9EA2-5A8DBB3C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278-05B5-48B3-961E-5D4A7019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270-B4B5-40F2-B021-3156F5DF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AF3A-CE77-4EAE-BF24-13A76233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D80-F65D-4F6D-9465-F5CAF1E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332-24AA-44C0-8D10-3A1AD32B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03E-4C48-41EC-A47A-3E10B4C2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AF6-8625-44C7-B79E-13CC27C4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E33-C8A2-470C-9DD1-FF2E3EF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ADC-DC58-4529-90F3-0FFE33B1F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-914400" y="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Música del Carib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797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733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06520" y="6837480"/>
            <a:ext cx="2362320" cy="230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46160" y="6788160"/>
            <a:ext cx="2361960" cy="23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572000" y="6862680"/>
            <a:ext cx="2362320" cy="228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0" descr="Stamp Blank.JPG"/>
          <p:cNvPicPr/>
          <p:nvPr/>
        </p:nvPicPr>
        <p:blipFill>
          <a:blip r:embed="rId8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1"/>
          <p:cNvSpPr/>
          <p:nvPr/>
        </p:nvSpPr>
        <p:spPr>
          <a:xfrm>
            <a:off x="457200" y="13716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Puedo nombrar y describir unas canciones populare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2"/>
          <p:cNvSpPr/>
          <p:nvPr/>
        </p:nvSpPr>
        <p:spPr>
          <a:xfrm>
            <a:off x="4842000" y="70232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Puedo dar datos sobre la situación político/económico de las islas caribeñ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3"/>
          <p:cNvSpPr/>
          <p:nvPr/>
        </p:nvSpPr>
        <p:spPr>
          <a:xfrm>
            <a:off x="4724280" y="137160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Puedo describir varios artistas caribeñas con hechos interestantes de su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2590920" y="14479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Puedo distinguir entre los generos de música caribeña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380880" y="686268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Puedo comprender un artículo/tweet/cuento sobre un canción o un mús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6"/>
          <p:cNvSpPr/>
          <p:nvPr/>
        </p:nvSpPr>
        <p:spPr>
          <a:xfrm>
            <a:off x="380880" y="39355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Puedo expresar cómo las canciones carebeñas me hacen sen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7"/>
          <p:cNvSpPr/>
          <p:nvPr/>
        </p:nvSpPr>
        <p:spPr>
          <a:xfrm>
            <a:off x="4748040" y="3935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Puedo apoyar mi opi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8"/>
          <p:cNvSpPr/>
          <p:nvPr/>
        </p:nvSpPr>
        <p:spPr>
          <a:xfrm>
            <a:off x="2629080" y="703584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Puedo describir la geografía del ca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" descr="percución.JPG"/>
          <p:cNvPicPr/>
          <p:nvPr/>
        </p:nvPicPr>
        <p:blipFill>
          <a:blip r:embed="rId9"/>
          <a:stretch/>
        </p:blipFill>
        <p:spPr>
          <a:xfrm>
            <a:off x="2465280" y="3797280"/>
            <a:ext cx="210672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Shape 58" descr=""/>
          <p:cNvPicPr/>
          <p:nvPr/>
        </p:nvPicPr>
        <p:blipFill>
          <a:blip r:embed="rId10"/>
          <a:stretch/>
        </p:blipFill>
        <p:spPr>
          <a:xfrm>
            <a:off x="5029200" y="6380280"/>
            <a:ext cx="452520" cy="323640"/>
          </a:xfrm>
          <a:prstGeom prst="rect">
            <a:avLst/>
          </a:prstGeom>
          <a:ln w="0">
            <a:noFill/>
          </a:ln>
        </p:spPr>
      </p:pic>
      <p:pic>
        <p:nvPicPr>
          <p:cNvPr id="63" name="Shape 57" descr=""/>
          <p:cNvPicPr/>
          <p:nvPr/>
        </p:nvPicPr>
        <p:blipFill>
          <a:blip r:embed="rId11"/>
          <a:stretch/>
        </p:blipFill>
        <p:spPr>
          <a:xfrm>
            <a:off x="2103480" y="222120"/>
            <a:ext cx="604800" cy="401760"/>
          </a:xfrm>
          <a:prstGeom prst="rect">
            <a:avLst/>
          </a:prstGeom>
          <a:ln w="0">
            <a:noFill/>
          </a:ln>
        </p:spPr>
      </p:pic>
      <p:pic>
        <p:nvPicPr>
          <p:cNvPr id="64" name="Shape 51" descr=""/>
          <p:cNvPicPr/>
          <p:nvPr/>
        </p:nvPicPr>
        <p:blipFill>
          <a:blip r:embed="rId12"/>
          <a:stretch/>
        </p:blipFill>
        <p:spPr>
          <a:xfrm>
            <a:off x="2789280" y="222120"/>
            <a:ext cx="79200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" descr=""/>
          <p:cNvPicPr/>
          <p:nvPr/>
        </p:nvPicPr>
        <p:blipFill>
          <a:blip r:embed="rId13"/>
          <a:stretch/>
        </p:blipFill>
        <p:spPr>
          <a:xfrm>
            <a:off x="3643200" y="235080"/>
            <a:ext cx="623880" cy="415800"/>
          </a:xfrm>
          <a:prstGeom prst="rect">
            <a:avLst/>
          </a:prstGeom>
          <a:ln w="0">
            <a:noFill/>
          </a:ln>
        </p:spPr>
      </p:pic>
      <p:sp>
        <p:nvSpPr>
          <p:cNvPr id="66" name="Rounded Rectangle 26"/>
          <p:cNvSpPr/>
          <p:nvPr/>
        </p:nvSpPr>
        <p:spPr>
          <a:xfrm>
            <a:off x="1612800" y="6248520"/>
            <a:ext cx="4059360" cy="5889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5280" y="6248520"/>
            <a:ext cx="39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Puedo platicar de la influencía latina en la música popular estadouni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cp:lastPrinted>2015-10-19T13:44:12Z</cp:lastPrinted>
  <dcterms:modified xsi:type="dcterms:W3CDTF">2015-10-19T13:46:54Z</dcterms:modified>
  <cp:revision>28</cp:revision>
  <dc:subject/>
  <dc:title>Slide 1</dc:title>
</cp:coreProperties>
</file>