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AA6-212E-48CD-9CE4-CA78D363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870-E2D0-4167-9375-AFB154C2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F85-AA58-45DC-A966-C8A37A79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1C8-72B0-4793-B34B-261F6B5E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D6A-8DBD-48C0-9EA0-C73CB1A5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9EE-9D01-47C0-8E90-F3114701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EB02-52FA-42C5-8473-C3CAAD5C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DC1-C5A2-4C43-B855-8361A3BE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4FD-8DB4-43EF-8E41-687921D1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BE1-DE03-430E-AFE1-44E143A2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4A4-3A6A-4AB2-950E-192A6191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EB46-D86F-4F54-8D36-8BCED68E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16B3-4789-4D0D-8CA9-5891E5F35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914400" y="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Música del Carib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797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733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06520" y="6837480"/>
            <a:ext cx="2362320" cy="230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46160" y="6788160"/>
            <a:ext cx="2361960" cy="23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572000" y="6862680"/>
            <a:ext cx="2362320" cy="228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nombrar y describir unas canciones populare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4842000" y="70232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dar datos sobre la situación político/económico de las isla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724280" y="137160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varios artistas caribeñas con hechos interestantes de su v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2590920" y="14479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istinguir entre los generos de música caribeña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380880" y="686268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comprender un artículo/tweet/cuento sobre un canción o un mús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380880" y="39355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expresar cómo las canciones carebeñas me hacen sen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4748040" y="39355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apoyar mi opin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2629080" y="703584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describir la geografía del car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3" descr="percución.JPG"/>
          <p:cNvPicPr/>
          <p:nvPr/>
        </p:nvPicPr>
        <p:blipFill>
          <a:blip r:embed="rId9"/>
          <a:stretch/>
        </p:blipFill>
        <p:spPr>
          <a:xfrm>
            <a:off x="2465280" y="3797280"/>
            <a:ext cx="2106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Shape 58" descr=""/>
          <p:cNvPicPr/>
          <p:nvPr/>
        </p:nvPicPr>
        <p:blipFill>
          <a:blip r:embed="rId10"/>
          <a:stretch/>
        </p:blipFill>
        <p:spPr>
          <a:xfrm>
            <a:off x="5029200" y="638028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3" name="Shape 57" descr=""/>
          <p:cNvPicPr/>
          <p:nvPr/>
        </p:nvPicPr>
        <p:blipFill>
          <a:blip r:embed="rId11"/>
          <a:stretch/>
        </p:blipFill>
        <p:spPr>
          <a:xfrm>
            <a:off x="2103480" y="222120"/>
            <a:ext cx="604800" cy="401760"/>
          </a:xfrm>
          <a:prstGeom prst="rect">
            <a:avLst/>
          </a:prstGeom>
          <a:ln w="0">
            <a:noFill/>
          </a:ln>
        </p:spPr>
      </p:pic>
      <p:pic>
        <p:nvPicPr>
          <p:cNvPr id="64" name="Shape 51" descr=""/>
          <p:cNvPicPr/>
          <p:nvPr/>
        </p:nvPicPr>
        <p:blipFill>
          <a:blip r:embed="rId12"/>
          <a:stretch/>
        </p:blipFill>
        <p:spPr>
          <a:xfrm>
            <a:off x="2789280" y="222120"/>
            <a:ext cx="792000" cy="3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13"/>
          <a:stretch/>
        </p:blipFill>
        <p:spPr>
          <a:xfrm>
            <a:off x="3643200" y="235080"/>
            <a:ext cx="623880" cy="41580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26"/>
          <p:cNvSpPr/>
          <p:nvPr/>
        </p:nvSpPr>
        <p:spPr>
          <a:xfrm>
            <a:off x="1612800" y="6248520"/>
            <a:ext cx="4059360" cy="588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6"/>
          <p:cNvSpPr/>
          <p:nvPr/>
        </p:nvSpPr>
        <p:spPr>
          <a:xfrm>
            <a:off x="1565280" y="6248520"/>
            <a:ext cx="39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uedo platicar de la influencía latina en la música popular estadouni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cp:lastPrinted>2015-10-19T13:44:12Z</cp:lastPrinted>
  <dcterms:modified xsi:type="dcterms:W3CDTF">2015-10-19T13:46:54Z</dcterms:modified>
  <cp:revision>28</cp:revision>
  <dc:subject/>
  <dc:title>Slide 1</dc:title>
</cp:coreProperties>
</file>