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0D6-F187-45C9-98AC-E30AC867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68D-88CB-4F3C-B15A-68E758E6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E5D-ED80-4046-8213-B65D1636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005-DCEB-4AB5-B170-2D052840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F3E-605C-4830-8640-AF2B6480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968-8DF6-4D35-B7BF-E59EA7A2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8F4-2028-4150-A00E-47187F38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BC7-6CAA-4B6F-B8F8-B1D24CF0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B61-625E-4759-8425-8AD5E56D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639-88F9-44B4-BF63-290ECEFE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28C-6FA4-439F-9C97-15D0EB63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4DA-F656-49B7-A7E1-5EF78ADB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1BA9-0CB2-42C7-A1E9-8623AB735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533520" y="152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er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19720" y="12952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343400" y="3886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286000" y="647712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decir exactamente dónde está Guatemala y los países que lo limi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2590920" y="13716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escribir la geografía física de Guatemala  (G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800600" y="13716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la gente de GT en cuanto lo socioeconómico,  la composición étnicaaa y la vida cotidia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304920" y="4038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leer y/o analizar poemas, canciones, videos, y artículos que hablan de los temas relacion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4572000" y="40384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ofrecer varios detalles de las ocuriencias en GT entre los años 1970 y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457200" y="65530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hablar de la orígen de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2514600" y="66294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ofrecer detalles sobre cómo se solucionaron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comunicar la reacción de los EE.UU a esta situ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354920" y="380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de SLBi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304920" y="3808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Puedo describir el viaje de vida típico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2514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Puedo hablar sobre los derechos y deberes  o falta de derechos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4800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Puedo dar ejemplos de frases en canciones que ejemplifican la vida de un inmig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304920" y="3048120"/>
            <a:ext cx="190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Puedo describir lo que está pasando ahora mismo en GT en cuanto la situación polí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4724280" y="2971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Puedo ofrecer detalles de cómo está respondiendo los EE. 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228600" y="5562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Yo puedo decir por qué la novela se titula Esper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514600" y="556272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Yo puedo contar un nuevo cuento  verdadero de un inmigrante que conozco o que cono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4724280" y="56386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Yo puede decir lo que es el Immigrant Archiv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Monica</cp:lastModifiedBy>
  <dcterms:modified xsi:type="dcterms:W3CDTF">2015-09-03T11:03:56Z</dcterms:modified>
  <cp:revision>20</cp:revision>
  <dc:subject/>
  <dc:title>Slide 1</dc:title>
</cp:coreProperties>
</file>