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F43E-D291-438B-B51C-67928A9B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8A9-0727-43D2-9EB9-441D33A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8A6-784C-4050-B9B2-4B746A06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D548-7BA1-4119-A925-1E8277DE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06C7-0790-4545-BC28-4CFFA2B7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E5E-375B-4980-8C99-0BF35CF8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3AB2-014C-4ABD-A40A-222080F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515-2B19-465D-B212-482C5C4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B76-9A13-47D8-ABBD-81300C3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AF3-B495-4233-B4F2-4FF5FF32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3C4-244C-4A68-8B1A-75EEDE5F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99D-1427-400B-90E5-D1417BB2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C39E-9589-496B-AED2-ABCC8F688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533520" y="152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er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19720" y="1295280"/>
            <a:ext cx="26668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343400" y="38862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286000" y="6477120"/>
            <a:ext cx="24382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decir exactamente dónde está Guatemala y los países que lo limi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2590920" y="137160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escribir la geografía física de Guatemala  (G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800600" y="13716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la gente de GT en cuanto lo socioeconómico,  la composición étnicaaa y la vida cotidia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304920" y="40384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leer y/o analizar poemas, canciones, videos, y artículos que hablan de los temas relacion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45720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ofrecer varios detalles de las ocuriencias en GT entre los años 1970 y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457200" y="65530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hablar de la orígen de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2514600" y="662940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ofrecer detalles sobre cómo se solucionaron los problemas en GT antes del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comunicar la reacción de los EE.UU a esta situ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354920" y="3808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de SLBi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70" name="TextBox 16"/>
          <p:cNvSpPr/>
          <p:nvPr/>
        </p:nvSpPr>
        <p:spPr>
          <a:xfrm>
            <a:off x="304920" y="38088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Puedo describir el viaje de vida típico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2514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Puedo hablar sobre los derechos y deberes  o falta de derechos de un inmigr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8"/>
          <p:cNvSpPr/>
          <p:nvPr/>
        </p:nvSpPr>
        <p:spPr>
          <a:xfrm>
            <a:off x="4800600" y="380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Puedo dar ejemplos de frases en canciones que ejemplifican la vida de un inmigr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304920" y="30481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Puedo describir lo que está pasando ahora mismo en GT en cuanto la situación polít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0"/>
          <p:cNvSpPr/>
          <p:nvPr/>
        </p:nvSpPr>
        <p:spPr>
          <a:xfrm>
            <a:off x="4724280" y="29718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Puedo ofrecer detalles de cómo está respondiendo los EE. U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1"/>
          <p:cNvSpPr/>
          <p:nvPr/>
        </p:nvSpPr>
        <p:spPr>
          <a:xfrm>
            <a:off x="228600" y="55627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Yo puedo decir por qué la novela se titula Esper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514600" y="55627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Yo puedo contar un nuevo cuento  verdadero de un inmigrante que conozco o que cono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4724280" y="56386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Yo puede decir lo que es el Immigrant Archiv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Monica</cp:lastModifiedBy>
  <dcterms:modified xsi:type="dcterms:W3CDTF">2015-09-03T11:03:56Z</dcterms:modified>
  <cp:revision>20</cp:revision>
  <dc:subject/>
  <dc:title>Slide 1</dc:title>
</cp:coreProperties>
</file>