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D51-E2BA-4808-8997-DE397E42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FC5-BF5E-42BD-8179-3F88D784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126-F146-4640-A8A7-ADFE0DB1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C69-4F25-4EDA-AFCD-0DF8519F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F6F-F759-4167-91B8-4D1652A1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48A-7942-41BA-9E6F-6588D875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365-6802-4D4E-9953-490146D4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8AE-97BC-49FC-8122-656CA6C1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B9C-A4CE-45DB-8697-C17B5610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0BD-90AB-49D2-A639-9245E9B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FDB-4E81-4A39-8420-90AAFE31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2E4-C95B-4000-8E0A-D9E6890B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508A-413E-4464-B751-851028CFD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Monica</cp:lastModifiedBy>
  <dcterms:modified xsi:type="dcterms:W3CDTF">2015-09-03T11:03:56Z</dcterms:modified>
  <cp:revision>20</cp:revision>
  <dc:subject/>
  <dc:title>Slide 1</dc:title>
</cp:coreProperties>
</file>