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641-4411-4F05-8CAA-D74CB2E2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920-F53F-431F-ACA4-38F5CF7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328-50EA-4EBB-B2F8-8CE4C612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562-D019-4A0B-8347-9F510878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E85B-A8A6-4E5E-ACB1-E02F9606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8EEE-C171-47FB-96EA-8DD4B554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511-98BC-4889-86FD-B6CDD2A6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98D-E564-4A2D-A8D5-53A96489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926-2DA5-4B8C-8409-8FAA3496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21D-FD2D-47B7-ABD5-A9181EF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152-7598-4516-8B97-628BCCDA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FFFD-9CFE-4BDB-8284-09AE6BE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3C0-6B03-422E-88AC-F851DF1D4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Administrator</cp:lastModifiedBy>
  <dcterms:modified xsi:type="dcterms:W3CDTF">2015-09-02T02:45:34Z</dcterms:modified>
  <cp:revision>14</cp:revision>
  <dc:subject/>
  <dc:title>Slide 1</dc:title>
</cp:coreProperties>
</file>