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998-AB01-4D25-9A4C-81CE6C0A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0D9-2FC9-40A2-AA57-64C6D7BA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DFE-8BE5-445E-B800-AC55FE2F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F94-A22A-4138-92DB-6802E1B3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A5C1-F975-4040-9123-8B73CA2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63E-E2F2-4E6D-9AEA-A9AB5F65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3FA-BC2A-4A87-9B21-846E30CC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9CB-5CE4-42AE-946E-3ECF6F4C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18A-C82A-4AEE-96B6-E9B5D640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F37-95E5-40D3-9CDD-F98DA831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515-61F9-4C2A-9F2D-CB624D50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5DF-5676-4BBD-BF6D-222E436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52FB-00F0-48C1-8D55-58B93D128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5:37Z</dcterms:modified>
  <cp:revision>20</cp:revision>
  <dc:subject/>
  <dc:title>Slide 1</dc:title>
</cp:coreProperties>
</file>