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C5E-9C81-4AAF-AF65-32AFF848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ADE-8A26-40E3-8790-D3D3511B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E69-1322-4919-9055-BDBBD007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7FE-75A9-4709-B10F-4E2CEBC1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C7E-D0A7-468E-A234-CD773899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007-B653-4C78-9EBB-C2B30EF6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A3E-8828-4584-815F-9CF1AEC9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F6E-097D-427F-8673-0CFB011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EF9-7222-4A7D-A305-DB64D4FE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4A7-8DDE-4495-AD28-689A66A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778-30BF-4982-8CE2-6C621271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6EA-98D0-4FE0-BEF3-3DCD833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ABAB-9B99-44E3-881F-0E19BD0CB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5:37Z</dcterms:modified>
  <cp:revision>20</cp:revision>
  <dc:subject/>
  <dc:title>Slide 1</dc:title>
</cp:coreProperties>
</file>