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903-9023-4222-9074-47BB4746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BF4-9691-43AF-B678-FEDDB847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BA5-9738-409D-BB06-5DC44976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54A-578B-4ABF-A0E4-1B097107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C80-86DE-492A-B3BF-09B8F6C2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E0C-B573-4410-9B74-1673103B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19A-74BA-43DF-A3FE-F1AE4CC7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E1D-0B10-4435-804A-E2090662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DCD-54FB-4719-9F01-3030573C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21C-EF1B-4510-913B-E762E06A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6A8-FB76-4E0B-B99B-E20844A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A5E-E8BC-4A33-B3BF-061D56D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121D-2A7F-4B19-83F5-55F2F5EA4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8:09Z</dcterms:modified>
  <cp:revision>14</cp:revision>
  <dc:subject/>
  <dc:title>Slide 1</dc:title>
</cp:coreProperties>
</file>