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408-3255-464D-B324-5FBBF914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4BE-E0A7-4EB7-9D1F-B4A2D575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C55-8929-4484-9798-7F30A274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43B-FB1E-4DA3-9B91-24E679C3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699-2175-463D-A5F2-D1C04829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53F-A811-43DF-AB0B-F0F7F8BB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3DF-51F7-4955-994F-DAF4D4F9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6F0-B2E0-4B47-A561-B2AE76C9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9C6-1F05-49DC-B859-34EDC002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2C2-19FE-4079-8F1A-8E00B41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314-CB8A-4A44-AEE1-39C07829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250-4A49-4AF2-B696-69475EB0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D5D8-A3F7-4A23-841F-3B30DD102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1-03T00:43:31Z</dcterms:modified>
  <cp:revision>28</cp:revision>
  <dc:subject/>
  <dc:title>Slide 1</dc:title>
</cp:coreProperties>
</file>