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3FC4-E8AF-4CAF-A110-C0EA9A2B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1A97-4F88-4C80-89B6-170CA88B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7BEC-2C71-425D-9680-F5038D5F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71E7-0ADF-4BD0-A5B0-83158EBC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C097-4A10-4182-B253-FB15A431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B70A-EE53-4ED6-BA7C-D3D70F3B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1849-0406-4606-8522-D57C520C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5481-1745-47A2-AE8C-76BFB149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D2B0-EDEC-49E3-B214-3CF65D9C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4C8E-D508-4E82-AE27-A1B5CF27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67BE-7A70-4A98-87AE-58E3EE37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EA9F-1807-4C58-B55F-3C741D94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6EC6-C813-4FA4-AFAA-DAA94E60E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-914400" y="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¡Música del Carib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9568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797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495680" y="3733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306520" y="6837480"/>
            <a:ext cx="2362320" cy="2306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46160" y="6788160"/>
            <a:ext cx="2361960" cy="23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572000" y="6862680"/>
            <a:ext cx="2362320" cy="228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Stamp Blank.JPG"/>
          <p:cNvPicPr/>
          <p:nvPr/>
        </p:nvPicPr>
        <p:blipFill>
          <a:blip r:embed="rId8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1"/>
          <p:cNvSpPr/>
          <p:nvPr/>
        </p:nvSpPr>
        <p:spPr>
          <a:xfrm>
            <a:off x="457200" y="13716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Puedo nombrar y describir unas canciones populares caribeñ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2"/>
          <p:cNvSpPr/>
          <p:nvPr/>
        </p:nvSpPr>
        <p:spPr>
          <a:xfrm>
            <a:off x="4842000" y="70232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Puedo dar datos sobre la situación político/económico de las islas caribeñ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4724280" y="137160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Puedo describir varios artistas caribeñas con hechos interestantes de su v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2590920" y="144792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Puedo distinguir entre los generos de música caribeña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5"/>
          <p:cNvSpPr/>
          <p:nvPr/>
        </p:nvSpPr>
        <p:spPr>
          <a:xfrm>
            <a:off x="380880" y="686268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Puedo comprender un artículo/tweet/cuento sobre un canción o un mús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6"/>
          <p:cNvSpPr/>
          <p:nvPr/>
        </p:nvSpPr>
        <p:spPr>
          <a:xfrm>
            <a:off x="380880" y="39355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Puedo expresar cómo las canciones carebeñas me hacen sen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7"/>
          <p:cNvSpPr/>
          <p:nvPr/>
        </p:nvSpPr>
        <p:spPr>
          <a:xfrm>
            <a:off x="4748040" y="39355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Puedo apoyar mi opin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8"/>
          <p:cNvSpPr/>
          <p:nvPr/>
        </p:nvSpPr>
        <p:spPr>
          <a:xfrm>
            <a:off x="2629080" y="703584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Puedo describir la geografía del cari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3" descr="percución.JPG"/>
          <p:cNvPicPr/>
          <p:nvPr/>
        </p:nvPicPr>
        <p:blipFill>
          <a:blip r:embed="rId9"/>
          <a:stretch/>
        </p:blipFill>
        <p:spPr>
          <a:xfrm>
            <a:off x="2465280" y="3797280"/>
            <a:ext cx="210672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Shape 58" descr=""/>
          <p:cNvPicPr/>
          <p:nvPr/>
        </p:nvPicPr>
        <p:blipFill>
          <a:blip r:embed="rId10"/>
          <a:stretch/>
        </p:blipFill>
        <p:spPr>
          <a:xfrm>
            <a:off x="5029200" y="638028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3" name="Shape 57" descr=""/>
          <p:cNvPicPr/>
          <p:nvPr/>
        </p:nvPicPr>
        <p:blipFill>
          <a:blip r:embed="rId11"/>
          <a:stretch/>
        </p:blipFill>
        <p:spPr>
          <a:xfrm>
            <a:off x="2103480" y="222120"/>
            <a:ext cx="604800" cy="401760"/>
          </a:xfrm>
          <a:prstGeom prst="rect">
            <a:avLst/>
          </a:prstGeom>
          <a:ln w="0">
            <a:noFill/>
          </a:ln>
        </p:spPr>
      </p:pic>
      <p:pic>
        <p:nvPicPr>
          <p:cNvPr id="64" name="Shape 51" descr=""/>
          <p:cNvPicPr/>
          <p:nvPr/>
        </p:nvPicPr>
        <p:blipFill>
          <a:blip r:embed="rId12"/>
          <a:stretch/>
        </p:blipFill>
        <p:spPr>
          <a:xfrm>
            <a:off x="2789280" y="222120"/>
            <a:ext cx="792000" cy="39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" descr=""/>
          <p:cNvPicPr/>
          <p:nvPr/>
        </p:nvPicPr>
        <p:blipFill>
          <a:blip r:embed="rId13"/>
          <a:stretch/>
        </p:blipFill>
        <p:spPr>
          <a:xfrm>
            <a:off x="3643200" y="235080"/>
            <a:ext cx="623880" cy="415800"/>
          </a:xfrm>
          <a:prstGeom prst="rect">
            <a:avLst/>
          </a:prstGeom>
          <a:ln w="0">
            <a:noFill/>
          </a:ln>
        </p:spPr>
      </p:pic>
      <p:sp>
        <p:nvSpPr>
          <p:cNvPr id="66" name="Rounded Rectangle 26"/>
          <p:cNvSpPr/>
          <p:nvPr/>
        </p:nvSpPr>
        <p:spPr>
          <a:xfrm>
            <a:off x="1612800" y="6248520"/>
            <a:ext cx="4059360" cy="588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6"/>
          <p:cNvSpPr/>
          <p:nvPr/>
        </p:nvSpPr>
        <p:spPr>
          <a:xfrm>
            <a:off x="1565280" y="6248520"/>
            <a:ext cx="398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uedo platicar de la influencía latina en la música popular estadounid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staff</cp:lastModifiedBy>
  <cp:lastPrinted>2015-10-19T13:44:12Z</cp:lastPrinted>
  <dcterms:modified xsi:type="dcterms:W3CDTF">2015-11-03T00:43:31Z</dcterms:modified>
  <cp:revision>28</cp:revision>
  <dc:subject/>
  <dc:title>Slide 1</dc:title>
</cp:coreProperties>
</file>