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1000-EE5B-42CF-BC07-701D714F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3DFB-DB41-4880-B024-8443AD0C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56D5-B74F-429D-A0A6-6ABCD312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29E2-AF81-429F-A50D-39CEFA00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D6F8-3281-45F4-AF36-0BE19A20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689-6F6A-46F5-B3AB-4C12B07C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FDDB-8D18-413D-B8A8-04BF5DFB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201-207A-4828-BD7C-308EA01E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AC3-ED0F-4B40-B94C-0D8F03DE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AC1-1095-4522-AB3D-2D0A4825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4562-2FDB-4DA9-9EB9-CD6ADF03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A588-9D75-4D17-93A4-AF7152BE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A6FA-4541-4B84-9455-66832632D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4920" y="1522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Cúrem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62320" y="6477120"/>
            <a:ext cx="236196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Monica\AppData\Local\Microsoft\Windows\Temporary Internet Files\Content.IE5\2NFS6IYH\stethoscope[1].jpg"/>
          <p:cNvPicPr/>
          <p:nvPr/>
        </p:nvPicPr>
        <p:blipFill>
          <a:blip r:embed="rId8"/>
          <a:stretch/>
        </p:blipFill>
        <p:spPr>
          <a:xfrm>
            <a:off x="457200" y="228600"/>
            <a:ext cx="620640" cy="59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Monica\AppData\Local\Microsoft\Windows\Temporary Internet Files\Content.IE5\2NFS6IYH\spilledpills[1].jpg"/>
          <p:cNvPicPr/>
          <p:nvPr/>
        </p:nvPicPr>
        <p:blipFill>
          <a:blip r:embed="rId9"/>
          <a:stretch/>
        </p:blipFill>
        <p:spPr>
          <a:xfrm>
            <a:off x="2438280" y="4038480"/>
            <a:ext cx="1095480" cy="13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Monica\AppData\Local\Microsoft\Windows\Temporary Internet Files\Content.IE5\59A9JS8S\250px-Cleaned-Illustration_Euphorbia_helioscopia[1].jpg"/>
          <p:cNvPicPr/>
          <p:nvPr/>
        </p:nvPicPr>
        <p:blipFill>
          <a:blip r:embed="rId10"/>
          <a:stretch/>
        </p:blipFill>
        <p:spPr>
          <a:xfrm>
            <a:off x="3505320" y="4952880"/>
            <a:ext cx="838080" cy="121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Stamp Blank.JPG"/>
          <p:cNvPicPr/>
          <p:nvPr/>
        </p:nvPicPr>
        <p:blipFill>
          <a:blip r:embed="rId11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I can identify at least 15 body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2590920" y="13716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I can tell what hu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487692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I can ask someone what hurts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4"/>
          <p:cNvSpPr/>
          <p:nvPr/>
        </p:nvSpPr>
        <p:spPr>
          <a:xfrm>
            <a:off x="457200" y="39625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I can fill out a simple patien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5"/>
          <p:cNvSpPr/>
          <p:nvPr/>
        </p:nvSpPr>
        <p:spPr>
          <a:xfrm>
            <a:off x="4800600" y="396252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I can understand an article/tweet/story about an inj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457200" y="65530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I can ask for some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7"/>
          <p:cNvSpPr/>
          <p:nvPr/>
        </p:nvSpPr>
        <p:spPr>
          <a:xfrm>
            <a:off x="2590920" y="6629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I can understand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I can understand someone describing thei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4001760" y="48420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JCPS Stamp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ice-pack.jpg"/>
          <p:cNvPicPr/>
          <p:nvPr/>
        </p:nvPicPr>
        <p:blipFill>
          <a:blip r:embed="rId9"/>
          <a:stretch/>
        </p:blipFill>
        <p:spPr>
          <a:xfrm>
            <a:off x="2438280" y="2971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6"/>
          <p:cNvSpPr/>
          <p:nvPr/>
        </p:nvSpPr>
        <p:spPr>
          <a:xfrm>
            <a:off x="304920" y="3808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I can answer some medical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2514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I can give five (5) pieces of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4800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I can read medical labels, prescriptions, fl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304920" y="30481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I can describe my symptoms/how I f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4724280" y="297180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 I can tell how I got hurt/someone else got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228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I can help someone in a medical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2514600" y="5562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I can identify at least five (5) illnesses based on th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4800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I can understand medicine 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18"/>
          <p:cNvSpPr/>
          <p:nvPr/>
        </p:nvSpPr>
        <p:spPr>
          <a:xfrm>
            <a:off x="228600" y="8077320"/>
            <a:ext cx="64008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57200" y="8153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can compare the medical practices of traditional western medicine to the practices of the Dominican Re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Administrator</cp:lastModifiedBy>
  <dcterms:modified xsi:type="dcterms:W3CDTF">2015-09-02T02:45:34Z</dcterms:modified>
  <cp:revision>14</cp:revision>
  <dc:subject/>
  <dc:title>Slide 1</dc:title>
</cp:coreProperties>
</file>