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86F-55C2-4E6A-BFA6-87D0B040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A15-9095-4053-A70B-11FC7C87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0CC-088E-483D-A4E7-F9B5ECEB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544-0F6E-46A1-B03E-23F7A426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E68-379A-4121-BE97-2ED2A78D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022B-AF0D-4B23-A4F5-41D86C99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F3AC-9C79-4993-85A8-302028B0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F9C-6374-4A7C-91C7-249F14ED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F722-F4B5-4B62-8CF5-F01FFF05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C06-1748-4C80-BA31-290352BD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04F7-3933-46C0-8E99-7594E772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2C7-3F29-4396-BB94-68CA3EFF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5F02-9CF9-4D9E-9433-37664093E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amilia Video Facebook Casa"/>
          <p:cNvPicPr/>
          <p:nvPr/>
        </p:nvPicPr>
        <p:blipFill>
          <a:blip r:embed="rId1"/>
          <a:stretch/>
        </p:blipFill>
        <p:spPr>
          <a:xfrm>
            <a:off x="6553080" y="304920"/>
            <a:ext cx="1782720" cy="1328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8600" y="533520"/>
            <a:ext cx="7620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Canción Video Youtube: </a:t>
            </a:r>
            <a:r>
              <a:rPr b="0" i="1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La Familia-Facebook 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papá, el papá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La mamá, la mamá ¿___________ ___________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hermano, ____ _______________ 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_______ _______ ___________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la hermana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 _______________, gusto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El bebe, el bebe ¿dónde está? _________ 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_________________ saludarte.  Ya se va, ya se va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¿quién más?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__________________, _______________ ¿dónde está? Aquí está</a:t>
            </a:r>
            <a:br>
              <a:rPr sz="1800"/>
            </a:b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Gusto saludarte, gusto saludarte.  Ya se va, ya se v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0:23:33Z</dcterms:created>
  <dc:creator>Monica</dc:creator>
  <dc:description/>
  <dc:language>en-US</dc:language>
  <cp:lastModifiedBy>Monica</cp:lastModifiedBy>
  <dcterms:modified xsi:type="dcterms:W3CDTF">2014-03-11T10:29:45Z</dcterms:modified>
  <cp:revision>2</cp:revision>
  <dc:subject/>
  <dc:title>Canción Video Youtube: La Familia-Facebook  El papá, el papá ¿dónde está? Aquí está Gusto saludarte, gusto saludarte.  Ya se va, ya se va La mamá, la mamá ¿___________ ___________? Aquí está Gusto saludarte, gusto saludarte.  Ya se va, ya se va El hermano, ____ _______________  ¿dónde está? Aquí está Gusto saludarte, gusto saludarte.  _______ _______ ___________, ya se va __________________, la hermana ¿dónde está? Aquí está Gusto  _______________, gusto saludarte.  Ya se va, ya se va El bebe, el bebe ¿dónde está? _________ ______________ Gusto saludarte, _________________ saludarte.  Ya se va, ya se va __________________, _______________¿dónde está? Aquí está _________________________________________________________________________________________ ¿quién más?   __________________, _______________ ¿dónde está? Aquí está Gusto saludarte, gusto saludarte.  Ya se va, ya se va </dc:title>
</cp:coreProperties>
</file>