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4BC-3F1A-44DA-A7C7-65342626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02D-F2F4-4C56-BFA7-62BF22B5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339-5071-4E11-87D3-8848D673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12A-069D-41DE-A269-7EC63287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0EF-619F-4519-88DE-CAEF460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330-BE36-4941-8942-CA70965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5E3-782E-4C47-B7EB-34CE9947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A53-BB93-43B2-937D-C574F2E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734-1A49-4ABD-8C76-A94F833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F69-5DA2-4854-9022-1B20823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A30-512C-4BDC-B232-FA41B24E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B18-1383-4598-9D5E-BDAEC1DE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EFAB-BD97-4E24-8E73-1C885E580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milia Video Facebook Casa"/>
          <p:cNvPicPr/>
          <p:nvPr/>
        </p:nvPicPr>
        <p:blipFill>
          <a:blip r:embed="rId1"/>
          <a:stretch/>
        </p:blipFill>
        <p:spPr>
          <a:xfrm>
            <a:off x="6553080" y="304920"/>
            <a:ext cx="1782720" cy="1328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533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Canción Video Youtube: </a:t>
            </a:r>
            <a:r>
              <a:rPr b="0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La Familia-Facebook 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papá, el papá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La mamá, la mamá ¿___________ ___________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hermano, ____ _______________ 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_______ _______ ___________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la hermana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 _______________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bebe, el bebe ¿dónde está? _________ 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_________________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¿quién más?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0:23:33Z</dcterms:created>
  <dc:creator>Monica</dc:creator>
  <dc:description/>
  <dc:language>en-US</dc:language>
  <cp:lastModifiedBy>Monica</cp:lastModifiedBy>
  <dcterms:modified xsi:type="dcterms:W3CDTF">2014-03-11T10:29:45Z</dcterms:modified>
  <cp:revision>2</cp:revision>
  <dc:subject/>
  <dc:title>Canción Video Youtube: La Familia-Facebook  El papá, el papá ¿dónde está? Aquí está Gusto saludarte, gusto saludarte.  Ya se va, ya se va La mamá, la mamá ¿___________ ___________? Aquí está Gusto saludarte, gusto saludarte.  Ya se va, ya se va El hermano, ____ _______________  ¿dónde está? Aquí está Gusto saludarte, gusto saludarte.  _______ _______ ___________, ya se va __________________, la hermana ¿dónde está? Aquí está Gusto  _______________, gusto saludarte.  Ya se va, ya se va El bebe, el bebe ¿dónde está? _________ ______________ Gusto saludarte, _________________ saludarte.  Ya se va, ya se va __________________, _______________¿dónde está? Aquí está _________________________________________________________________________________________ ¿quién más?   __________________, _______________ ¿dónde está? Aquí está Gusto saludarte, gusto saludarte.  Ya se va, ya se va </dc:title>
</cp:coreProperties>
</file>