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96A-A313-45B7-96BD-8F95751A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CD3-548D-494E-AF8E-3CD7F8DC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B61-A510-4AD0-9ED7-C6BFD0E9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63D-A4EB-47B3-A247-CD052FF8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BEF-6B81-4A4C-BC23-DC407377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53D-5B2E-4A61-8129-897C67B0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53C-629A-4B84-A00C-90C7DE3C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7C0-E4CF-4BDA-9D0F-B1D083B3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F33-9E97-4FE7-AB09-7F6B09CD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71E-F2C2-438E-8800-FF1E1E0D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0AD-5F80-4785-8785-EBE3FD02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A88-34BE-4CD1-A45D-1BFDC728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28B1-EC65-4B79-8F3A-30009508D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amilia Video Facebook Casa"/>
          <p:cNvPicPr/>
          <p:nvPr/>
        </p:nvPicPr>
        <p:blipFill>
          <a:blip r:embed="rId1"/>
          <a:stretch/>
        </p:blipFill>
        <p:spPr>
          <a:xfrm>
            <a:off x="6553080" y="304920"/>
            <a:ext cx="1782720" cy="1328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8600" y="5335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Canción Video Youtube: </a:t>
            </a:r>
            <a:r>
              <a:rPr b="0" i="1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La Familia-Facebook 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papá, el papá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La mamá, la mamá ¿___________ ___________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hermano, ____ _______________ 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_______ _______ ___________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la hermana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 _______________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bebe, el bebe ¿dónde está? _________ 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_________________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¿quién más?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0:23:33Z</dcterms:created>
  <dc:creator>Monica</dc:creator>
  <dc:description/>
  <dc:language>en-US</dc:language>
  <cp:lastModifiedBy>Monica</cp:lastModifiedBy>
  <dcterms:modified xsi:type="dcterms:W3CDTF">2014-03-11T10:29:45Z</dcterms:modified>
  <cp:revision>2</cp:revision>
  <dc:subject/>
  <dc:title>Canción Video Youtube: La Familia-Facebook  El papá, el papá ¿dónde está? Aquí está Gusto saludarte, gusto saludarte.  Ya se va, ya se va La mamá, la mamá ¿___________ ___________? Aquí está Gusto saludarte, gusto saludarte.  Ya se va, ya se va El hermano, ____ _______________  ¿dónde está? Aquí está Gusto saludarte, gusto saludarte.  _______ _______ ___________, ya se va __________________, la hermana ¿dónde está? Aquí está Gusto  _______________, gusto saludarte.  Ya se va, ya se va El bebe, el bebe ¿dónde está? _________ ______________ Gusto saludarte, _________________ saludarte.  Ya se va, ya se va __________________, _______________¿dónde está? Aquí está _________________________________________________________________________________________ ¿quién más?   __________________, _______________ ¿dónde está? Aquí está Gusto saludarte, gusto saludarte.  Ya se va, ya se va </dc:title>
</cp:coreProperties>
</file>