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CF57-1DB5-4F26-B245-664FBC0E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314-DE74-4FC2-8CD0-6513E98B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685-0604-44E3-B89E-AD98943C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8AC-DDDC-4582-8A50-97275F75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711-1F71-428D-854E-E01F64E2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661-6B1A-4BF7-9B35-300426C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914E-7E13-49FC-B23E-13B2E20B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5FD-635F-43B3-B2EB-0A7B9F6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18B-D9DC-4ECA-9054-D3C8DD64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9C2-BD1F-4319-ACE6-2BCCC4A5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D639-5038-43D4-95BD-4E55B73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139-628E-4FEE-B5AF-F6388BA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6659-C06B-4A0B-9CFF-CC6B9010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533520"/>
            <a:ext cx="85341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5345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1522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04920"/>
            <a:ext cx="8610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8390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533520" y="45720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~1\mburgos\LOCALS~1\Temp\auto0.bmp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8:01:56Z</dcterms:created>
  <dc:creator>Merrillville Community School Corporation</dc:creator>
  <dc:description/>
  <dc:language>en-US</dc:language>
  <cp:lastModifiedBy>User</cp:lastModifiedBy>
  <dcterms:modified xsi:type="dcterms:W3CDTF">2014-09-09T18:09:57Z</dcterms:modified>
  <cp:revision>4</cp:revision>
  <dc:subject/>
  <dc:title>PowerPoint Presentation</dc:title>
</cp:coreProperties>
</file>