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B70-F5A0-498E-AE9A-41FEC085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88D1-3C44-4530-BEF2-D0708E75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8950-DF1F-4C25-8886-D5DD7FE0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27C-7D42-40BA-8C6C-E181F76D9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6FC-3FB0-4A00-B735-394F300B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666A-F7A9-419C-B308-6F732B0D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DBA-C420-43B5-9B11-0B927EDD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F1D-59AD-4672-8EE1-483DC679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508-DA5E-4F5E-A564-33BB2B50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495-6585-4C66-8EF5-48407B06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435-B0ED-414C-B1A9-211DF329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4F9-5AA8-4F16-B749-3665F1EC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5CF9-9078-4C26-823F-DB7E858FD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53352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6868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80880"/>
            <a:ext cx="8839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533520" y="45720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457200" y="38088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18:01:56Z</dcterms:created>
  <dc:creator>Merrillville Community School Corporation</dc:creator>
  <dc:description/>
  <dc:language>en-US</dc:language>
  <cp:lastModifiedBy>User</cp:lastModifiedBy>
  <dcterms:modified xsi:type="dcterms:W3CDTF">2014-09-09T18:09:57Z</dcterms:modified>
  <cp:revision>4</cp:revision>
  <dc:subject/>
  <dc:title>PowerPoint Presentation</dc:title>
</cp:coreProperties>
</file>