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F427-3C8A-4B67-9B1B-0AF7A71E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8FB6-C043-47C0-B8EA-1D11E59D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E0B-4A25-4E80-A68D-131FD192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63C6-0BCD-40FB-8736-9770411E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698-E71D-4448-B131-7119F363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1C1-780C-4538-B73B-D1FC9B83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8000-8807-47F2-80D3-0D618DE5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B2E-5562-42F6-82BB-D154345F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9BD-35F8-479C-941C-3EE40056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00C-D915-48E9-B3EB-69B655AD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327-6235-4884-BC6C-E9072C6E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8D3F-FB8C-445F-B42A-ACEADD12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FB39-154E-4C8F-A43F-E4ACCB902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53352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5345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534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228600"/>
            <a:ext cx="86868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380880"/>
            <a:ext cx="8839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533520" y="457200"/>
            <a:ext cx="8610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457200" y="38088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18:01:56Z</dcterms:created>
  <dc:creator>Merrillville Community School Corporation</dc:creator>
  <dc:description/>
  <dc:language>en-US</dc:language>
  <cp:lastModifiedBy>User</cp:lastModifiedBy>
  <dcterms:modified xsi:type="dcterms:W3CDTF">2014-09-09T18:09:57Z</dcterms:modified>
  <cp:revision>4</cp:revision>
  <dc:subject/>
  <dc:title>PowerPoint Presentation</dc:title>
</cp:coreProperties>
</file>